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269720" y="606600"/>
            <a:ext cx="10464840" cy="10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269720" y="5872320"/>
            <a:ext cx="1046484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31920" y="276984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697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31920" y="5872320"/>
            <a:ext cx="5106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816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46600" y="276984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26972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80816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346600" y="5872320"/>
            <a:ext cx="3369600" cy="283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0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0"/>
            <a:ext cx="104648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39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3394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1" marL="339480" indent="-339480" algn="ctr">
              <a:buClr>
                <a:srgbClr val="2f1a14"/>
              </a:buClr>
              <a:buFont typeface="Papyru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2" marL="339480" indent="-339480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3" marL="339480" indent="-339480" algn="ctr">
              <a:buClr>
                <a:srgbClr val="2f1a14"/>
              </a:buClr>
              <a:buFont typeface="Papyru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4" marL="339480" indent="-339480" algn="ctr">
              <a:buClr>
                <a:srgbClr val="2f1a14"/>
              </a:buClr>
              <a:buFont typeface="Papyru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5" marL="339480" indent="-339480" algn="ctr">
              <a:buClr>
                <a:srgbClr val="2f1a14"/>
              </a:buClr>
              <a:buFont typeface="Papyru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  <a:p>
            <a:pPr lvl="6" marL="339480" indent="-339480" algn="ctr">
              <a:buClr>
                <a:srgbClr val="2f1a14"/>
              </a:buClr>
              <a:buFont typeface="Papyru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269720" y="1168560"/>
            <a:ext cx="10464840" cy="7416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55908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1" marL="1460520" indent="-558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2" marL="2171880" indent="-55908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3" marL="2882880" indent="-558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4" marL="3606840" indent="-558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5" marL="3606840" indent="-558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6" marL="3606840" indent="-558720">
              <a:spcBef>
                <a:spcPts val="36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3137040"/>
            <a:ext cx="10464840" cy="346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5590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1" marL="146052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2" marL="2171880" indent="-5590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3" marL="288288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4" marL="360684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5" marL="360684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lvl="6" marL="3606840" indent="-55872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731484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270080" y="2769840"/>
            <a:ext cx="495288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3110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862560" indent="-3110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224000" indent="-3110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1635120" indent="-3106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2046600" indent="-3110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2046600" indent="-3110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2046600" indent="-3110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558720"/>
            <a:ext cx="10464840" cy="2260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269720" y="2819160"/>
            <a:ext cx="1046484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109224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54944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2070000" indent="-3934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259092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259092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2590920" indent="-3938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270080" y="2769840"/>
            <a:ext cx="495288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3110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862560" indent="-3110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224000" indent="-3110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1635120" indent="-3106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2046600" indent="-3110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2046600" indent="-3110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2046600" indent="-31104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53000" y="2769840"/>
            <a:ext cx="438156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417240" indent="-2872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1" marL="797040" indent="-2872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2" marL="1130760" indent="-2872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3" marL="1510920" indent="-28692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4" marL="1891080" indent="-2872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5" marL="1891080" indent="-2872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  <a:p>
            <a:pPr lvl="6" marL="1891080" indent="-287280">
              <a:spcBef>
                <a:spcPts val="2801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6108840" cy="5283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60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37720" y="5359320"/>
            <a:ext cx="6108840" cy="4394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Click to edit the outline text format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1" marL="343080" indent="-343080" algn="ctr">
              <a:buClr>
                <a:srgbClr val="2f1a14"/>
              </a:buClr>
              <a:buFont typeface="Papyru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Second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2" marL="343080" indent="-343080" algn="ctr">
              <a:buClr>
                <a:srgbClr val="2f1a14"/>
              </a:buClr>
              <a:buFont typeface="Papyru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Third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3" marL="343080" indent="-343080" algn="ctr">
              <a:buClr>
                <a:srgbClr val="2f1a14"/>
              </a:buClr>
              <a:buFont typeface="Papyru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Fourth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4" marL="343080" indent="-343080" algn="ctr">
              <a:buClr>
                <a:srgbClr val="2f1a14"/>
              </a:buClr>
              <a:buFont typeface="Papyru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Fifth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5" marL="343080" indent="-343080" algn="ctr">
              <a:buClr>
                <a:srgbClr val="2f1a14"/>
              </a:buClr>
              <a:buFont typeface="Papyru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Sixth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  <a:p>
            <a:pPr lvl="6" marL="343080" indent="-343080" algn="ctr">
              <a:buClr>
                <a:srgbClr val="2f1a14"/>
              </a:buClr>
              <a:buFont typeface="Papyru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a14"/>
                </a:solidFill>
                <a:latin typeface="Papyrus"/>
              </a:rPr>
              <a:t>Seventh Outline Level</a:t>
            </a:r>
            <a:endParaRPr b="0" lang="en-US" sz="30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635040"/>
            <a:ext cx="10464840" cy="2108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Click to edit the title text forma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0"/>
            <a:ext cx="104648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Lucida Grande"/>
                <a:ea typeface="Lucida Grande"/>
              </a:rPr>
              <a:t>The Mummification Process</a:t>
            </a:r>
            <a:endParaRPr b="0" lang="en-US" sz="54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3911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1"/>
          <a:stretch/>
        </p:blipFill>
        <p:spPr>
          <a:xfrm rot="5580000">
            <a:off x="7703280" y="4756320"/>
            <a:ext cx="3667320" cy="44384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"/>
          <p:cNvPicPr/>
          <p:nvPr/>
        </p:nvPicPr>
        <p:blipFill>
          <a:blip r:embed="rId2"/>
          <a:srcRect l="39999" t="5929" r="39999" b="0"/>
          <a:stretch/>
        </p:blipFill>
        <p:spPr>
          <a:xfrm>
            <a:off x="0" y="2247840"/>
            <a:ext cx="16002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44fe"/>
                </a:solidFill>
                <a:uFillTx/>
                <a:latin typeface="Arial Bold"/>
                <a:ea typeface="Arial Bold"/>
              </a:rPr>
              <a:t>Step 3</a:t>
            </a:r>
            <a:br>
              <a:rPr sz="3600"/>
            </a:br>
            <a:r>
              <a:rPr b="0" lang="en-US" sz="3600" spc="-1" strike="noStrike">
                <a:solidFill>
                  <a:srgbClr val="0044fe"/>
                </a:solidFill>
                <a:latin typeface="Arial Bold"/>
                <a:ea typeface="Arial Bold"/>
              </a:rPr>
              <a:t>Removal of Brain </a:t>
            </a:r>
            <a:br>
              <a:rPr sz="3600"/>
            </a:b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merican Typewriter"/>
                <a:ea typeface="American Typewriter"/>
              </a:rPr>
              <a:t>First part to be removed was brain.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4e2d"/>
                </a:solidFill>
                <a:latin typeface="American Typewriter"/>
                <a:ea typeface="American Typewriter"/>
              </a:rPr>
              <a:t>  </a:t>
            </a:r>
            <a:r>
              <a:rPr b="0" lang="en-US" sz="2800" spc="-1" strike="noStrike">
                <a:solidFill>
                  <a:srgbClr val="5b4e2d"/>
                </a:solidFill>
                <a:latin typeface="American Typewriter"/>
                <a:ea typeface="American Typewriter"/>
              </a:rPr>
              <a:t>The egyptians thought brain was waste of space.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merican Typewriter"/>
                <a:ea typeface="American Typewriter"/>
              </a:rPr>
              <a:t>Hook was inserted in nose then pulled, put it in water to dissolve. 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4e2d"/>
                </a:solidFill>
                <a:latin typeface="American Typewriter"/>
                <a:ea typeface="American Typewriter"/>
              </a:rPr>
              <a:t>Some people think the water was then thrown out, but others think it was taken with the mummy to the burial chamber. 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91960"/>
            <a:ext cx="10464840" cy="23608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44fe"/>
                </a:solidFill>
                <a:uFillTx/>
                <a:latin typeface="Arial Bold"/>
                <a:ea typeface="Arial Bold"/>
              </a:rPr>
              <a:t>Step 4:</a:t>
            </a:r>
            <a:br>
              <a:rPr sz="2800"/>
            </a:br>
            <a:r>
              <a:rPr b="0" lang="en-US" sz="2800" spc="-1" strike="noStrike">
                <a:solidFill>
                  <a:srgbClr val="0044fe"/>
                </a:solidFill>
                <a:latin typeface="Arial Bold"/>
                <a:ea typeface="Arial Bold"/>
              </a:rPr>
              <a:t>Removal of Internal Organs 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652480"/>
            <a:ext cx="10464840" cy="642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merican Typewriter"/>
                <a:ea typeface="American Typewriter"/>
              </a:rPr>
              <a:t>The liver, the lungs, the stomach, and the intestine were removed next.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4e2d"/>
                </a:solidFill>
                <a:latin typeface="American Typewriter"/>
                <a:ea typeface="American Typewriter"/>
              </a:rPr>
              <a:t>A small slit was made on the left side of the abdomen, then the embalmers reached in and pulled out the organs.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merican Typewriter"/>
                <a:ea typeface="American Typewriter"/>
              </a:rPr>
              <a:t>Each organ was  stored in little coffins called canopic jars. 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38160" rIns="252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44fe"/>
                </a:solidFill>
                <a:latin typeface="Arial"/>
                <a:ea typeface="Arial"/>
              </a:rPr>
              <a:t>After Internal Organs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  <a:ea typeface="Arial"/>
              </a:rPr>
              <a:t>Inside of the body was washed out with palm oil, lotions, and preserving fluids. 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  <a:ea typeface="Arial"/>
              </a:rPr>
              <a:t>Next the body was stuffed with linen, straw, or other packing material.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2e6ffd"/>
                </a:solidFill>
                <a:uFillTx/>
                <a:latin typeface="Arial Bold"/>
                <a:ea typeface="Arial Bold"/>
              </a:rPr>
              <a:t>Step 5 :</a:t>
            </a:r>
            <a:br>
              <a:rPr sz="3200"/>
            </a:br>
            <a:r>
              <a:rPr b="0" lang="en-US" sz="3200" spc="-1" strike="noStrike">
                <a:solidFill>
                  <a:srgbClr val="2e6ffd"/>
                </a:solidFill>
                <a:latin typeface="Arial Bold"/>
                <a:ea typeface="Arial Bold"/>
              </a:rPr>
              <a:t>Drying Out Process</a:t>
            </a:r>
            <a:br>
              <a:rPr sz="2800"/>
            </a:b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merican Typewriter"/>
                <a:ea typeface="American Typewriter"/>
              </a:rPr>
              <a:t>The body was placed on a slab and covered with </a:t>
            </a:r>
            <a:r>
              <a:rPr b="0" lang="en-US" sz="2800" spc="-1" strike="noStrike">
                <a:solidFill>
                  <a:srgbClr val="ff2712"/>
                </a:solidFill>
                <a:latin typeface="American Typewriter"/>
                <a:ea typeface="American Typewriter"/>
              </a:rPr>
              <a:t>natron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merican Typewriter"/>
                <a:ea typeface="American Typewriter"/>
              </a:rPr>
              <a:t>Body was taken outside and let dry for forty days.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38160" rIns="2520" tIns="38160" bIns="38160" anchor="ctr">
            <a:noAutofit/>
          </a:bodyPr>
          <a:p>
            <a:pPr marL="1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44fe"/>
                </a:solidFill>
                <a:uFillTx/>
                <a:latin typeface="Arial Bold"/>
                <a:ea typeface="Arial Bold"/>
              </a:rPr>
              <a:t>Step 6</a:t>
            </a:r>
            <a:r>
              <a:rPr b="0" lang="en-US" sz="4800" spc="-1" strike="noStrike">
                <a:solidFill>
                  <a:srgbClr val="0044fe"/>
                </a:solidFill>
                <a:latin typeface="Arial Bold"/>
                <a:ea typeface="Arial Bold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0044fe"/>
                </a:solidFill>
                <a:latin typeface="Arial Bold"/>
                <a:ea typeface="Arial Bold"/>
              </a:rPr>
              <a:t>Wrapping of the Body </a:t>
            </a:r>
            <a:endParaRPr b="0" lang="en-US" sz="4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53720" y="280800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Arial"/>
                <a:ea typeface="Arial"/>
              </a:rPr>
              <a:t>Hundreds of yards of linen were used to wrap the body. Each toe and finger was wrapped separately. 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Arial"/>
                <a:ea typeface="Arial"/>
              </a:rPr>
              <a:t>Mummia was added to the linens to "glue" it all together. (mummia= "mummy".) 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Bell  Ringer 10-7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5590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What do you believe is the most important step in the mummification process thus far?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TOC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5590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Pg 13” Afterlife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Pg 14: Mummy 3 c-n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44fe"/>
                </a:solidFill>
                <a:uFillTx/>
                <a:latin typeface="Arial Bold"/>
                <a:ea typeface="Arial Bold"/>
              </a:rPr>
              <a:t>Step 7:</a:t>
            </a:r>
            <a:br>
              <a:rPr sz="5400"/>
            </a:br>
            <a:r>
              <a:rPr b="0" lang="en-US" sz="5400" spc="-1" strike="noStrike">
                <a:solidFill>
                  <a:srgbClr val="0044fe"/>
                </a:solidFill>
                <a:latin typeface="Arial Bold"/>
                <a:ea typeface="Arial Bold"/>
              </a:rPr>
              <a:t>Final Procession </a:t>
            </a:r>
            <a:br>
              <a:rPr sz="5400"/>
            </a:br>
            <a:endParaRPr b="0" lang="en-US" sz="54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  <a:ea typeface="Arial"/>
              </a:rPr>
              <a:t>Family and friends of the deceased walked through the town on their way to the burial place.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urners were paid to cry so that the gods of the other world would see that the person was well loved. 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  <a:ea typeface="Arial"/>
              </a:rPr>
              <a:t>The more people cried, the more he was loved, and the better chance he had of going to the after world. 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38160" rIns="252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44fe"/>
                </a:solidFill>
                <a:latin typeface="Arial"/>
                <a:ea typeface="Arial"/>
              </a:rPr>
              <a:t>Before Weighing of Heart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2712"/>
                </a:solidFill>
                <a:latin typeface="Arial"/>
                <a:ea typeface="Arial"/>
              </a:rPr>
              <a:t>Priests used special instruments to touch different parts of the face. 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gyptians believed that the mummy  couldn’t eat, see, hear, or move in the afterlife if the ceremony did not take place.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38160" rIns="2520" tIns="38160" bIns="38160" anchor="ctr">
            <a:noAutofit/>
          </a:bodyPr>
          <a:p>
            <a:pPr marL="1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fe"/>
                </a:solidFill>
                <a:latin typeface="Arial"/>
                <a:ea typeface="Arial"/>
              </a:rPr>
              <a:t>Book of the Dead 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68560" y="2769840"/>
            <a:ext cx="1046448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  <a:ea typeface="Arial"/>
              </a:rPr>
              <a:t>A  collection of 200 magic spells--contained instructions on how to achieve eternal life. 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Bell Ringer:10-3</a:t>
            </a: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	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5590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Why do you believe Hieroglyphics was such a turn on in Ancient Egypt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38160" rIns="252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 u="sng">
                <a:solidFill>
                  <a:srgbClr val="0044fe"/>
                </a:solidFill>
                <a:uFillTx/>
                <a:latin typeface="Arial"/>
                <a:ea typeface="Arial"/>
              </a:rPr>
              <a:t>Weighing of the Heart</a:t>
            </a:r>
            <a:endParaRPr b="0" lang="en-US" sz="2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38160" rIns="2520" tIns="38160" bIns="38160" anchor="ctr">
            <a:normAutofit/>
          </a:bodyPr>
          <a:p>
            <a:pPr marL="838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a14"/>
              </a:solidFill>
              <a:latin typeface="Papyrus"/>
            </a:endParaRPr>
          </a:p>
          <a:p>
            <a:pPr marL="838080" indent="-558720">
              <a:lnSpc>
                <a:spcPct val="100000"/>
              </a:lnSpc>
              <a:spcBef>
                <a:spcPts val="1199"/>
              </a:spcBef>
              <a:buClr>
                <a:srgbClr val="ff2712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Most Important Task--- heart was considered the center of the being. 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marL="838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  <a:p>
            <a:pPr marL="838080" indent="-558720">
              <a:lnSpc>
                <a:spcPct val="100000"/>
              </a:lnSpc>
              <a:spcBef>
                <a:spcPts val="1199"/>
              </a:spcBef>
              <a:buClr>
                <a:srgbClr val="ff2712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"/>
                <a:ea typeface="Arial"/>
              </a:rPr>
              <a:t>Maat, the goddess of truth, brought out her scale; on one side was the mummy's heart, and on the other was the Feather of Truth.</a:t>
            </a:r>
            <a:endParaRPr b="0" lang="en-US" sz="24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44fe"/>
                </a:solidFill>
                <a:latin typeface="Papyrus"/>
              </a:rPr>
              <a:t>WOTH Cont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2712"/>
                </a:solidFill>
                <a:latin typeface="Arial"/>
                <a:ea typeface="Arial"/>
              </a:rPr>
              <a:t>Anubis,  god of the underworld, made  final judgment</a:t>
            </a:r>
            <a:endParaRPr b="0" lang="en-US" sz="26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2712"/>
                </a:solidFill>
                <a:latin typeface="Arial"/>
                <a:ea typeface="Arial"/>
              </a:rPr>
              <a:t>Heart balances the feather, the soul of the mummy was granted immortality. </a:t>
            </a:r>
            <a:endParaRPr b="0" lang="en-US" sz="26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2712"/>
                </a:solidFill>
                <a:latin typeface="Arial"/>
                <a:ea typeface="Arial"/>
              </a:rPr>
              <a:t>Heart was heavier than the feather the soul was doomed</a:t>
            </a:r>
            <a:endParaRPr b="0" lang="en-US" sz="26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TOC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5590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Pg 9: Cartouche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Pg 10: Mummy 1 c-n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f1a14"/>
                </a:solidFill>
                <a:latin typeface="Papyrus"/>
              </a:rPr>
              <a:t>TOC</a:t>
            </a:r>
            <a:endParaRPr b="0" lang="en-US" sz="7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62120" indent="-5590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P g 11: Orbituary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  <a:p>
            <a:pPr marL="762120" indent="-559080">
              <a:spcBef>
                <a:spcPts val="1199"/>
              </a:spcBef>
              <a:buClr>
                <a:srgbClr val="2f1a14"/>
              </a:buClr>
              <a:buSzPct val="46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f1a14"/>
                </a:solidFill>
                <a:latin typeface="Papyrus"/>
              </a:rPr>
              <a:t>Pg 12: Mummy 2 C-n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553680"/>
            <a:ext cx="10464840" cy="2268360"/>
          </a:xfrm>
          <a:prstGeom prst="rect">
            <a:avLst/>
          </a:prstGeom>
          <a:noFill/>
          <a:ln w="0">
            <a:noFill/>
          </a:ln>
        </p:spPr>
        <p:txBody>
          <a:bodyPr lIns="38160" rIns="252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003dcc"/>
                </a:solidFill>
                <a:latin typeface="Arial"/>
                <a:ea typeface="Arial"/>
              </a:rPr>
              <a:t>First Mummies</a:t>
            </a:r>
            <a:endParaRPr b="0" lang="en-US" sz="48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04480" y="2822400"/>
            <a:ext cx="10464840" cy="608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90b00"/>
                </a:solidFill>
                <a:latin typeface="Arial"/>
                <a:ea typeface="Arial"/>
              </a:rPr>
              <a:t>buried their dead in small pits in the desert. </a:t>
            </a:r>
            <a:endParaRPr b="0" lang="en-US" sz="4800" spc="-1" strike="noStrike">
              <a:solidFill>
                <a:srgbClr val="2f1a14"/>
              </a:solidFill>
              <a:latin typeface="Papyrus"/>
            </a:endParaRPr>
          </a:p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The ancient Egyptians Heat dehydrated the bodies quickly, creating lifelike and natural 'mummies'.</a:t>
            </a:r>
            <a:endParaRPr b="0" lang="en-US" sz="48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38160" rIns="2520" tIns="38160" bIns="38160" anchor="ctr">
            <a:noAutofit/>
          </a:bodyPr>
          <a:p>
            <a:pPr indent="0">
              <a:lnSpc>
                <a:spcPct val="100000"/>
              </a:lnSpc>
              <a:spcBef>
                <a:spcPts val="18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3dcc"/>
                </a:solidFill>
                <a:latin typeface="Arial"/>
                <a:ea typeface="Arial"/>
              </a:rPr>
              <a:t>Over Time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712"/>
                </a:solidFill>
                <a:latin typeface="Arial"/>
                <a:ea typeface="Arial"/>
              </a:rPr>
              <a:t>Began burying in coffins to protect them from wild animals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634680" y="203040"/>
            <a:ext cx="10464840" cy="7632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 u="sng">
                <a:solidFill>
                  <a:srgbClr val="5b4e2d"/>
                </a:solidFill>
                <a:uFillTx/>
                <a:latin typeface="Arial Bold"/>
                <a:ea typeface="Arial Bold"/>
              </a:rPr>
              <a:t>Step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5b4e2d"/>
                </a:solidFill>
                <a:latin typeface="American Typewriter"/>
                <a:ea typeface="American Typewriter"/>
              </a:rPr>
              <a:t>1. Announcement of Death </a:t>
            </a:r>
            <a:br>
              <a:rPr sz="3200"/>
            </a:br>
            <a:r>
              <a:rPr b="0" lang="en-US" sz="3200" spc="-1" strike="noStrike">
                <a:solidFill>
                  <a:srgbClr val="5b4e2d"/>
                </a:solidFill>
                <a:latin typeface="American Typewriter"/>
                <a:ea typeface="American Typewriter"/>
              </a:rPr>
              <a:t>2. Embalming the Body  </a:t>
            </a:r>
            <a:br>
              <a:rPr sz="3200"/>
            </a:br>
            <a:r>
              <a:rPr b="0" lang="en-US" sz="3200" spc="-1" strike="noStrike">
                <a:solidFill>
                  <a:srgbClr val="5b4e2d"/>
                </a:solidFill>
                <a:latin typeface="American Typewriter"/>
                <a:ea typeface="American Typewriter"/>
              </a:rPr>
              <a:t>3. Removal of Brain </a:t>
            </a:r>
            <a:br>
              <a:rPr sz="3200"/>
            </a:br>
            <a:r>
              <a:rPr b="0" lang="en-US" sz="3200" spc="-1" strike="noStrike">
                <a:solidFill>
                  <a:srgbClr val="5b4e2d"/>
                </a:solidFill>
                <a:latin typeface="American Typewriter"/>
                <a:ea typeface="American Typewriter"/>
              </a:rPr>
              <a:t>4. Removal of Internal Organs </a:t>
            </a:r>
            <a:br>
              <a:rPr sz="3200"/>
            </a:br>
            <a:r>
              <a:rPr b="0" lang="en-US" sz="3200" spc="-1" strike="noStrike">
                <a:solidFill>
                  <a:srgbClr val="5b4e2d"/>
                </a:solidFill>
                <a:latin typeface="American Typewriter"/>
                <a:ea typeface="American Typewriter"/>
              </a:rPr>
              <a:t>5. Drying Out Process </a:t>
            </a:r>
            <a:br>
              <a:rPr sz="3200"/>
            </a:br>
            <a:r>
              <a:rPr b="0" lang="en-US" sz="3200" spc="-1" strike="noStrike">
                <a:solidFill>
                  <a:srgbClr val="5b4e2d"/>
                </a:solidFill>
                <a:latin typeface="American Typewriter"/>
                <a:ea typeface="American Typewriter"/>
              </a:rPr>
              <a:t>6. Wrapping of the Body </a:t>
            </a:r>
            <a:br>
              <a:rPr sz="3200"/>
            </a:br>
            <a:r>
              <a:rPr b="0" lang="en-US" sz="3200" spc="-1" strike="noStrike">
                <a:solidFill>
                  <a:srgbClr val="5b4e2d"/>
                </a:solidFill>
                <a:latin typeface="American Typewriter"/>
                <a:ea typeface="American Typewriter"/>
              </a:rPr>
              <a:t>7. Final Procession </a:t>
            </a:r>
            <a:br>
              <a:rPr sz="3200"/>
            </a:br>
            <a:r>
              <a:rPr b="0" lang="en-US" sz="3200" spc="-1" strike="noStrike">
                <a:solidFill>
                  <a:srgbClr val="5b4e2d"/>
                </a:solidFill>
                <a:latin typeface="American Typewriter"/>
              </a:rPr>
              <a:t> </a:t>
            </a:r>
            <a:endParaRPr b="0" lang="en-US" sz="3200" spc="-1" strike="noStrike">
              <a:solidFill>
                <a:srgbClr val="2f1a14"/>
              </a:solidFill>
              <a:latin typeface="Papyrus"/>
            </a:endParaRPr>
          </a:p>
        </p:txBody>
      </p:sp>
      <p:pic>
        <p:nvPicPr>
          <p:cNvPr id="465" name="Picture 2" descr=""/>
          <p:cNvPicPr/>
          <p:nvPr/>
        </p:nvPicPr>
        <p:blipFill>
          <a:blip r:embed="rId2"/>
          <a:stretch/>
        </p:blipFill>
        <p:spPr>
          <a:xfrm>
            <a:off x="8126280" y="1155600"/>
            <a:ext cx="3340080" cy="60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4fe"/>
                </a:solidFill>
                <a:latin typeface="Arial Bold"/>
                <a:ea typeface="Arial Bold"/>
              </a:rPr>
              <a:t>Step 1:</a:t>
            </a:r>
            <a:br>
              <a:rPr sz="5400"/>
            </a:br>
            <a:r>
              <a:rPr b="0" lang="en-US" sz="5400" spc="-1" strike="noStrike" u="sng">
                <a:solidFill>
                  <a:srgbClr val="0044fe"/>
                </a:solidFill>
                <a:uFillTx/>
                <a:latin typeface="Arial Bold"/>
                <a:ea typeface="Arial Bold"/>
              </a:rPr>
              <a:t>Announcement of Death </a:t>
            </a:r>
            <a:br>
              <a:rPr sz="5400"/>
            </a:br>
            <a:endParaRPr b="0" lang="en-US" sz="54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759960" indent="-49140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2712"/>
                </a:solidFill>
                <a:latin typeface="American Typewriter"/>
                <a:ea typeface="American Typewriter"/>
              </a:rPr>
              <a:t>Let the people know that someone had died.</a:t>
            </a:r>
            <a:endParaRPr b="0" lang="en-US" sz="5400" spc="-1" strike="noStrike">
              <a:solidFill>
                <a:srgbClr val="2f1a14"/>
              </a:solidFill>
              <a:latin typeface="Papyrus"/>
            </a:endParaRPr>
          </a:p>
          <a:p>
            <a:pPr marL="759960" indent="-49140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4e2d"/>
                </a:solidFill>
                <a:latin typeface="American Typewriter"/>
                <a:ea typeface="American Typewriter"/>
              </a:rPr>
              <a:t> </a:t>
            </a:r>
            <a:r>
              <a:rPr b="0" lang="en-US" sz="5400" spc="-1" strike="noStrike">
                <a:solidFill>
                  <a:srgbClr val="5b4e2d"/>
                </a:solidFill>
                <a:latin typeface="American Typewriter"/>
                <a:ea typeface="American Typewriter"/>
              </a:rPr>
              <a:t>A messenger was sent out to the streets to announce the death.</a:t>
            </a:r>
            <a:endParaRPr b="0" lang="en-US" sz="5400" spc="-1" strike="noStrike">
              <a:solidFill>
                <a:srgbClr val="2f1a14"/>
              </a:solidFill>
              <a:latin typeface="Papyrus"/>
            </a:endParaRPr>
          </a:p>
          <a:p>
            <a:pPr marL="759960" indent="-49140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2712"/>
                </a:solidFill>
                <a:latin typeface="American Typewriter"/>
                <a:ea typeface="American Typewriter"/>
              </a:rPr>
              <a:t>Allowed people to get ready for mourning period.</a:t>
            </a:r>
            <a:br>
              <a:rPr sz="5400"/>
            </a:br>
            <a:r>
              <a:rPr b="0" lang="en-US" sz="5400" spc="-1" strike="noStrike">
                <a:solidFill>
                  <a:srgbClr val="f3eb00"/>
                </a:solidFill>
                <a:latin typeface="American Typewriter"/>
              </a:rPr>
              <a:t> </a:t>
            </a:r>
            <a:endParaRPr b="0" lang="en-US" sz="54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606600"/>
            <a:ext cx="10464840" cy="21636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44fe"/>
                </a:solidFill>
                <a:uFillTx/>
                <a:latin typeface="Arial Bold"/>
                <a:ea typeface="Arial Bold"/>
              </a:rPr>
              <a:t>Step 2:</a:t>
            </a:r>
            <a:br>
              <a:rPr sz="3600"/>
            </a:br>
            <a:r>
              <a:rPr b="0" lang="en-US" sz="3600" spc="-1" strike="noStrike">
                <a:solidFill>
                  <a:srgbClr val="0044fe"/>
                </a:solidFill>
                <a:latin typeface="Arial Bold"/>
                <a:ea typeface="Arial Bold"/>
              </a:rPr>
              <a:t>Embalming the Body </a:t>
            </a:r>
            <a:br>
              <a:rPr sz="3600"/>
            </a:br>
            <a:endParaRPr b="0" lang="en-US" sz="3600" spc="-1" strike="noStrike">
              <a:solidFill>
                <a:srgbClr val="2f1a14"/>
              </a:solidFill>
              <a:latin typeface="Papyru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9840"/>
            <a:ext cx="10464840" cy="59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58720">
              <a:lnSpc>
                <a:spcPct val="100000"/>
              </a:lnSpc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American Typewriter"/>
                <a:ea typeface="American Typewriter"/>
              </a:rPr>
              <a:t>Embalmers were located in special tents or buildings called embalming workshops</a:t>
            </a:r>
            <a:endParaRPr b="0" lang="en-US" sz="4200" spc="-1" strike="noStrike">
              <a:solidFill>
                <a:srgbClr val="2f1a14"/>
              </a:solidFill>
              <a:latin typeface="Papyru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TylerDaughtry</cp:lastModifiedBy>
  <dcterms:modified xsi:type="dcterms:W3CDTF">2013-10-07T16:57:34Z</dcterms:modified>
  <cp:revision>7</cp:revision>
  <dc:subject/>
  <dc:title>The Mummification Process</dc:title>
</cp:coreProperties>
</file>